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4CD-71F0-46D4-AA89-3A05A974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3BF-DD04-4554-B34A-ED4493AD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6E1-4A98-4313-9D62-4AFE6F11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F6A-6E65-4D31-9569-DEED58AA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D299-CD68-4F61-9B6A-D56F46C1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6688-9318-4A24-98EE-14E37B09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8AEA-06E1-41DF-ADDE-1B3ECB09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2BFA-D327-47E6-97FE-F822D3EB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502A-3036-4B00-B447-F2E6F7FA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D3B6-8A8B-48C4-8E36-AE7B18B4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2AA-F767-4E55-915E-2E53BF0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264-55A2-47FB-B440-2F0B4593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07DA-E130-46A5-B2A4-548FD76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FB45-85B4-40F6-945C-8E1E67B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99E0-A418-4821-8C94-4E11416E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EC5E-6246-4933-88E8-7646729A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47C9-D48A-4275-A23B-DF81A5DE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658-300F-4C06-B844-59FEF1B0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275-A7C8-4ECC-8AAA-0EA832FE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461-FDAE-418C-BD85-BC17552E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DF9-C0AF-4E36-BAB0-F0E67859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E1B-3D63-4A6C-8512-E2B621AB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FA9-55D5-4D38-9524-93065ADC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C7D-8037-45A5-899B-7F03AEA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E45C-4421-4E98-985F-5BC8A68461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9D94-66DE-4C4A-8990-6FEA189CA0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oses’ Speeches On The Plains of Moab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Deuter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uteronom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Law:  Going Over The Law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Before Entering Into The Promised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Before The Leadership Is Handed Over To Josh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ive Books of Mo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is = Begin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dus = Leaving Egyptian Bond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iticus = Rites of Priest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= Numbering Israel &amp;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uteronomy 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ving or Rehearsal of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uteronomy Speech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Afraid; Remain Faithful – 1:1 – 4:40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God Has Done For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are Lest You Forget To Obey The Lord – 4:44 – 26:19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God Expects of Isra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"What God Will Do for Israel" (27:1--34: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t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arc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of M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Egypt to Sin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Makes A Cove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Sinai To Kade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Plains of Mo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’s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06:38Z</dcterms:created>
  <dc:creator>Terry W. Benton</dc:creator>
  <dc:description/>
  <dc:language>en-US</dc:language>
  <cp:lastModifiedBy>Terry W. Benton</cp:lastModifiedBy>
  <dcterms:modified xsi:type="dcterms:W3CDTF">2004-12-16T22:27:54Z</dcterms:modified>
  <cp:revision>1</cp:revision>
  <dc:subject/>
  <dc:title>Moses’ Speeches On The Plains of Moab</dc:title>
</cp:coreProperties>
</file>